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A62-D3F5-4BC2-BB3F-404FBD4F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1AD8-20C5-48BC-B8CA-E640E7E0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165AF-520D-4DFD-ACBE-E72319DA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F6FD0-737A-4B0C-AE2B-A89951DA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704F9-9CE9-4F70-9BFA-355F0387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5F51C-5D6E-4322-93C4-6704193F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B6508-33CF-449B-A9AC-347645DA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215D6-DB7E-46DB-B77E-1B2EFA6F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B88B1-A3AD-4225-89EB-85066624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1A145-3A45-49F9-A846-5BC44EB4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04AD3-B416-4CEA-8DCB-4FB0B721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345ED-9E08-48A9-A888-8521E56B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47A-5737-4FB7-AB8B-2F547E4A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EA238-5DD8-4715-B2D2-85914119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A038E-7F7F-468F-B20C-C474118E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DFE03-5F25-43E8-A0DB-90154E5C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28CE2-499A-45BC-8B71-963002B1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8B626-F329-473A-8FEB-16D37DD4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32EAF-033D-49C6-83D2-A9C8AA21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0C717-4A75-4231-AFE0-CB316EB5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E554D-968E-48DC-82E7-476BE063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5A846-E332-41D4-BCCE-85C991F8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2E422-30AA-4B74-A26B-5B927281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A7C-40D5-46E7-A5D7-1E749A5B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862C3-B934-4867-A26F-63FE3589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0B9A-1A5E-4F49-842A-8369C149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7061-15ED-461A-BE6A-81592D9C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F4AC-FF16-4472-BCE3-CF856E1D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9CED-9329-40EF-AECA-FDDEC10E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8C55-926C-49B1-BAE0-1A022636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7388-CA43-4A13-AA0E-8F68415B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6EAA-C458-491B-BDE3-9E8A6113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60B-E0EA-4C1D-A39D-A7F97E89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63C5-E004-40EC-9CE8-2986AAC1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5016-DBE0-4DEB-B52D-31EF8237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6671-75F8-467B-A896-2C167627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2C53-B68D-4935-8AA1-FEF0AD77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8E8E-32E6-4C54-9641-308D67C5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C3595-4881-4B72-A3EC-C8EED18C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F55A8-35C4-4ED2-8DDE-B124C959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4D723-BBDD-4083-8468-387E07AA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21A21-9655-4D3D-A90B-7628AD5D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F2E12-BDA1-4BB3-8E2A-19DE125C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B37-3C84-4EFB-A8D9-31EA1DFC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21D2C-A448-4E59-964D-4A41E57F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1FBAC-5606-4EB4-8393-3ED31D72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358E7-DE7B-46D8-A513-55F1F4B0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0966E-5E22-473A-861C-B247461A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305C6-B82A-44FD-8729-E16AEA65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39715-02BA-4427-AE73-3040A864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F931B-1FE3-4EC0-A453-DC5BACDC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BDDE9-EACC-45E9-8B55-08165D01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76BD0-55FC-4477-B722-6F3C6F25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AC9D2-D784-42F3-8673-D2400B39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A10-EA4F-426B-87F8-CB4E5775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068AB-DF65-45BB-AE9B-2FB1575E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750B1-7073-4EB4-A5A9-5F26312C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5A270-A1B0-4C2D-BE27-174B6DE4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4A4AF-CF04-49CB-8880-BC758237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9B2CB-0A28-4676-8178-57A90E6C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77656-3EEE-4C40-A356-55CB3340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A3C2A-C428-4F47-9865-2C7E4442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8CE9B-81FD-4AC2-8E3D-888E4EEA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ACE4B-3C4F-4155-B652-496F3DDD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1F428-6481-4EF0-99A3-4946BBC9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4AD-60CD-423D-850B-2327F791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E9618-EBAE-4968-BF71-64014A2C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19FDF-9B18-406E-8C27-6C4EC5E9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C74D6-4DF3-46D4-B638-DF83AA19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7D1D0-4282-4C2B-8837-4E798427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FB174-159A-47C9-9160-3A7D9E91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CBDF2-EA69-41A0-ABF9-27FAD82B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706F4-141C-4053-BEB9-557F7693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17425-2496-4914-970D-695137AE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307B6-0A7E-4941-B58B-0B7295BD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26924-F33E-49D0-886C-703FDAF4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6F3-528D-4294-8328-CC44EF5D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EC76E-838B-4BDD-8BE7-90F16132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12D26-52E2-4D5E-AAF9-E03CF68A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6707E-342F-410F-A6D2-A6185EA7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4F58F-4823-41EF-8B34-A1737B0C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36035-46EE-4736-8552-FE5BF341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EF430-BD74-4F93-BEB5-ABE4DF00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88472-1C76-4E52-8C24-582056DC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BD218-E91C-4BB3-A0D2-3AAE826A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8224D-AD1D-4E69-830B-86400E22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0003F-B3DB-4083-9BD8-FBE0F6ED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51D-468D-44B8-AB5B-88008960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2A43B-82E8-450C-A5D4-F3B0B260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1DB2D-C7E8-452E-8EB9-78BC8E25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24856-BD58-4B23-B081-CDBF367D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3EDAC-5830-4B83-89B6-CA95A737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DE3C3-95FC-4CE3-AEA8-34B81AFF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E7C2D-EA3C-42D4-9889-157FFE03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736B0-2F20-4DD5-A6D9-873A734F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3161A-E0F7-446F-B1E8-8D5DAC44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192A1-73F7-4618-A70C-BBDDE3E8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2A32F-EDDD-42DC-902A-43B86F1E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2418-FC36-4015-AEE5-086F761A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6EA54-3B0B-4BBE-9B02-A686D3CD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AF420-6AF9-434E-B87D-EAA89A65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AC733-6662-413C-ACDC-E095F744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E7A9B-C81D-41E1-9D9F-BFE43BD5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904A7-FD78-472A-809B-74BD3624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2967F-76B0-4907-89FA-78B93DC3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7BF9A-66D5-4019-BC3D-9CA2BAE8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71C8C-638E-44E9-A0A0-89A7C59A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96875-7E18-4DEE-93C8-37BC59A9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57F77-5B0B-4C05-9A82-E8D935AB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9FC-DD3E-48D5-BA40-E8893326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14FCA-EF29-4E51-897D-77C94F70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FBA25-A37F-4788-BD70-6D963328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66AB2-07FC-4387-B3F3-A726CC15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66FB1-4029-4219-B1A6-D3CEF608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CD8CC-6B35-426C-A6F3-2B447638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5DA1B-0867-4300-BB97-ABD5273D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39F85-1ACE-4A05-B99B-3E49FD24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98149-39EB-40DB-9E46-335A0164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44FEB-2304-40F4-81F3-ED266E9D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80816-82CD-473B-9955-1B36DBC2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D916-EB36-4B0F-AB80-822471FF985A}" type="slidenum">
              <a:rPr b="0" lang="bg-BG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3499-3B38-490C-B445-BD25895CA43B}" type="slidenum"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311C-9AD5-47C9-92C4-38C43F3AB0D2}" type="slidenum">
              <a:rPr b="0" lang="bg-BG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3DE9-A5A1-42B6-A13D-EAE87F6458C2}" type="slidenum">
              <a:rPr b="0" lang="bg-BG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1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609A-1306-43D4-94B3-165B834C3207}" type="slidenum">
              <a:rPr b="0" lang="bg-BG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96EB-92BE-40A8-BEF8-5DEF3D24B182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6996-329B-48EA-949E-64C3FABB7500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46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59C6-2C8A-4FEF-9126-D866122A3802}" type="slidenum">
              <a:rPr b="0" lang="bg-BG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91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8204-2910-4516-A602-EAAABF3F16DF}" type="slidenum">
              <a:rPr b="0" lang="bg-BG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3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8F5D-023E-4FAB-81A5-7AA9526F3F39}" type="slidenum"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ccecff"/>
                </a:solidFill>
                <a:latin typeface="Arial"/>
              </a:rPr>
              <a:t>ЗАУСТВАНЕ </a:t>
            </a:r>
            <a:br>
              <a:rPr sz="4800"/>
            </a:br>
            <a:r>
              <a:rPr b="0" lang="bg-BG" sz="4800" spc="-1" strike="noStrike">
                <a:solidFill>
                  <a:srgbClr val="ccecff"/>
                </a:solidFill>
                <a:latin typeface="Arial"/>
              </a:rPr>
              <a:t>на производствени отпадъчни вод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Условия и ре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нятие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627552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 u="sng">
                <a:solidFill>
                  <a:srgbClr val="000000"/>
                </a:solidFill>
                <a:uFillTx/>
                <a:latin typeface="Arial"/>
              </a:rPr>
              <a:t>Заустване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ъвеждане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 канализационните систе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а топлина и веществ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 u="sng">
                <a:solidFill>
                  <a:srgbClr val="000000"/>
                </a:solidFill>
                <a:uFillTx/>
                <a:latin typeface="Arial"/>
              </a:rPr>
              <a:t>Производствени отпадъчни 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оди от стопанска дейно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по произход, състав и свойства са различни от фекално-битовите отпадъчни води, резултат от човешки метаболизъм и битови дей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6443640" y="3716280"/>
            <a:ext cx="1782720" cy="2059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ff"/>
                </a:solidFill>
                <a:latin typeface="Arial"/>
              </a:rPr>
              <a:t>Правна уредба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Закон за вод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аредба №7 от 2000г. за условията и реда за заустване на производствени отпадъчни води в канализационните системи на населените м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аредба №6 от 2000г. за емисионни норми за допустимото съдържание на вредни и опасни вещества в отпадъчните води, зауствани във водни об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редба №10 от 2001г. за издаване на разрешителни за заустване на отпадъчни води във водни обекти и определяне на индивидуалните емисионни ограничения на точковите източници на замърся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8c0039"/>
                </a:solidFill>
                <a:latin typeface="Arial"/>
              </a:rPr>
              <a:t>Предварителни уточн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Цел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предотвратя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преустановя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намаляване на замърсяван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водите с опасни и вредни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редств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идентифициране на веществата и групирането им въз основа на токсичност, устойчивост и биоакумул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индивидуални емисионни ограни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Кой може да зауств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лице, получило разрешително за заустване по реда на Закона за во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абонат на ВиК 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граничения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по зак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по до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Условия за зауства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 канализационните системи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наличие на догов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ъв водни обекти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– разрешително за зауст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аустване без разрешително –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обекти извън регулация и след предварително уведомяване на съответната басейнова дире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абра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в пояс І на санитарно-охранителна зона около водоизточник и съоръжения за питейно-битово водоснабдя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около източници на минерални извори, използвани за лечебни, профилактични, питейни и хигиенни нуж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изхвърляне на води, които пречат на експлоатацията на канализационните мрежи и пречиствателните стан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Какво пречи на експлоатацията на канализационните мрежи и П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Твърди отпадъци и материали,които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гат да запушат тръби и шахти или се отлагат /вар, гипс, пясък, пепел,  метални стружки, конци, влакна, винена или бирена утайка, стъкло, течен тор и др.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ещества, които оказват разрушаващо действие на тръби и канализационни съоръжения, киселини, осн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еобеззаразени инфекциозни отпадъчни материали и микробиологични препар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Запалими, канцерогенни и радиоактивни вещества и отпадъ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ff"/>
                </a:solidFill>
                <a:latin typeface="Arial"/>
              </a:rPr>
              <a:t>Ред за заустван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79250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Молба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о лицето, експлоатиращо канализационната мрежа/КМ/ и/или пречиствателна станция /ПС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Сключване на писмен договор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между лицето, експлоатиращо КМ или ПС и абоната, с който се опред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орми за допустимо съдържание на вредни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ебит на производствените 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ясто и начин на зауст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Уведомяване на басейнова дирек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000000"/>
                </a:solidFill>
                <a:latin typeface="Verdana"/>
              </a:rPr>
              <a:t>Задължения на абонатит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Verdana"/>
              </a:rPr>
              <a:t>Да зауства производствени отпадъчни вод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Verdana"/>
              </a:rPr>
              <a:t>- на определеното мяст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Verdana"/>
              </a:rPr>
              <a:t>- без забранени примес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Verdana"/>
              </a:rPr>
              <a:t>- отговарящи на нормите за допустимо съдържание на замърсяващи вещест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Verdana"/>
              </a:rPr>
              <a:t>Да се осигури подходящо място и условия за измерване на дебита и за вземане на водни проб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Verdana"/>
              </a:rPr>
              <a:t>Да се изгради изравнителен резервоар преди заустването в случай на значителна промяна в дебит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Verdana"/>
              </a:rPr>
              <a:t>Да уведомят басейнова дирекция за сключения договор с експлоатационното предприяти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Verdana"/>
              </a:rPr>
              <a:t>Собствен мониторинг за превенц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оворн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6327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Основания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– незаконно зауства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неизпълнение на задължения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неизпълнение на предпис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Санкции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муществена санкция/глоба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о замърси над норма 1 000 - 5 000 л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увреди КМ ПС  500 – 5 000 л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укрие авария 5 000 – 15 000 л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 осигури достъп на контролни органи 150 – 500  л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съществява заустване на отпадъчни води без монтирано и пломбирано измервателно устройство - от 500 до 5000 л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инудителни административни мерк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л.199а З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атваряне на обекти, които замърсяв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пиране на дей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732720" y="4508640"/>
            <a:ext cx="2144520" cy="2179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8:45:56Z</dcterms:created>
  <dc:creator>albena.velikova</dc:creator>
  <dc:description/>
  <dc:language>en-US</dc:language>
  <cp:lastModifiedBy>albena.velikova</cp:lastModifiedBy>
  <dcterms:modified xsi:type="dcterms:W3CDTF">2011-06-02T09:28:15Z</dcterms:modified>
  <cp:revision>15</cp:revision>
  <dc:subject/>
  <dc:title>Метрологичен надзор</dc:title>
</cp:coreProperties>
</file>